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D2A-BD52-409A-B8AD-C2230656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6DF4-533E-444C-B3C2-E3853F056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5B18-9047-4045-B4BA-ED25B40DA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C0E1-2213-43B2-BB40-20FD7A6D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920B-626F-4AEE-9A58-6F1E77484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F558-645A-4F7D-B4F9-81D5A614B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7815-9B28-4986-BABB-F901F061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7A4D-3EBC-4AAE-9090-F07241B0A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136B-3568-4002-98F8-0BB772E8F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19F7-D207-474F-89FD-DB2C1267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580B-0398-46E0-8F20-5BCD15A4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6E9C-4BC0-4ABD-B56E-4E034ACEB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6F9-D1A9-4B53-9326-D2C1D7854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7614-9A3D-49B3-AFBB-B9340B9C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9C93-1FF0-4756-BA7E-B1B3B988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D33F-72FC-4DA0-A005-C8B7F59E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6CA6-0AA7-4C8F-A975-46C4F05C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4DA2-0E82-4537-910B-EEAF5756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9047-F2FC-48FC-A825-A3A0F2120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9B42-98D4-4AFC-9E64-B03A448DA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E9FD-B836-4CBC-B344-E0BCF46A0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B3E9-093A-4B24-BF80-5EDF5B036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0D3C-D404-473F-9295-D0ECC1AA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024F-713D-4BEC-A43E-34469FDBA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EEC-04F5-41BC-B9D3-71C97103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38E-7E75-47AD-906E-94B826EB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0B4-2DB4-4374-9E90-E3734E88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2D8-DB7F-4327-ADBB-6E08DD0B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B77D-9B8F-420D-8C20-85A1F939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B9BC-8880-4C4A-AC2E-C09332FF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84D5-63A1-40D6-8AE7-7F063CC7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271F-B769-4389-B037-C8190FC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D846-48C4-4B40-8E9D-7E0B472B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2861-65A4-4280-8020-B81B37AF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6B08-B3ED-4D75-AD03-81EC77D2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CA9-82E6-4662-A44E-9FDDAE3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055A-5121-4978-B2ED-050F1DF7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496C-6C3E-4E2F-8715-19E46FF9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791E-B562-4C61-9EDF-91828EB1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B300-0B0C-4E08-9D74-899DF366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8E0B-93FB-49E2-8428-ACA03B4E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518D9-CE9E-44D3-813B-23BA276F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AF99-C8E6-4B3F-A4EB-07F49D03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B02D-C6CE-4767-A9D5-140DE4B0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E222-DA68-4932-A074-6E0CBAE8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FF9D-622B-418F-9067-0AB99605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924-0FF4-4307-A62B-E2B28EBC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E658-33F1-41D2-88A7-9AAAB8D1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A6C3-6AE8-422E-A446-EE1F5DDC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C200-A9C8-425A-8FB0-A7F59916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2308-07F0-4CBB-961D-2A87C5DD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C264-345E-4367-8B87-8CC3850B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2F6D-C6D4-430C-A62A-07AA2C88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AC74-3DEA-4723-BB89-1269B4A2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F42-A5E5-4D32-A69C-EFDD49EA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C61-E016-439F-9ED0-F0DB28A0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6D9-A8CD-4807-BD67-6A0D667C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519-064B-482D-BB99-79D50125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B05-7051-49E5-AD60-14EAFDD3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7F5-8939-4A81-97DD-0DC634D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4763-912A-4A7C-8A5E-B9A1E8A66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E446-0C6E-4D45-A4B3-DD44ECD2F15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1074-5646-492C-B1A9-15B301E83A3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8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50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169400" y="31140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Comm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5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2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1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f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eroglyphic for 'a' was used only in the beginning of words (where a syllabic 'a' might occur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4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0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6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2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304920"/>
            <a:ext cx="670572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 from 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 for making this possi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0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Default</cp:lastModifiedBy>
  <dcterms:modified xsi:type="dcterms:W3CDTF">2009-01-16T18:04:34Z</dcterms:modified>
  <cp:revision>18</cp:revision>
  <dc:subject/>
  <dc:title>Slide 1</dc:title>
</cp:coreProperties>
</file>